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E3DF-762B-4375-84D9-4B03E5A10F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BB1-88D7-479B-9141-26EA6AB2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CE0-0B43-4DA6-BF5A-47F63DFB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C9A-59EA-4C20-9F8F-68ECD7F3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20C-BC76-4150-99FD-83C4F6B8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0112-BB1A-4D0A-B5AD-D80B8FAC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8198-A0F9-44B0-B054-F95689E1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16F8-ED85-4E3D-8926-842D2B61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7A0-5FFE-4CDD-8E86-C2708883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4081-ED5E-4FD7-B17D-3BF2A8E7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90EE-E0B3-433E-89C7-39273C7A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458C-0F42-4B34-B94B-38C146D5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55E-00C6-4803-863F-2051CCE4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155E-E204-44AF-B355-3025DDE9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76E8-A994-492C-9617-3EC00CC8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9098-F2D0-4326-9E26-DC52BB54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0342-B42C-49CC-B107-85379ADF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CFE3-E1B5-4F9C-B9EB-378F922C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5FDA-0ABB-4225-8E73-B00FBA26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933B-F38F-4A61-A8D7-0914919A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C7B1-7359-423D-81DC-99E8ACDE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8AAE-CAAD-4ECF-85EE-E4547A5F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9876-D554-4536-911C-7A3DE4E1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0E5-AC0A-42DD-99C4-114ACAF6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4345-17B6-4DC8-8708-104473CD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D419-D717-41F3-90B3-1294CAA4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3C04A-E0CF-4917-9411-8214852E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C3A3-CC73-4ADD-8BF5-8297D006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6C91-11C3-4259-A5C3-705212B3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C983-11DE-44E7-B0F0-A9CC3646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89CDA-EEB9-41D6-9886-B6608F7E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76EB-0E90-49AF-8117-0BDD69D6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B1B66-26C5-4D5B-B3F2-232F96A3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8CA93-4417-4607-AD3E-8EA45444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765-58CC-4C52-A26E-6820A114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2ECF-765C-4275-A8E7-4D9E229C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93709-242C-478F-9E4A-1DFE8D15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2EB28-3AAA-4A51-93EE-CA41C3C1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254D-0C32-4768-96AA-CE35EEE5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83CF9-4262-442D-A57C-60771131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916B-3CEF-474D-BEA1-3DF06A0B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5139-EFE7-4136-A80B-B6C12AC3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4C24-556A-4F86-87DD-0352865F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49D6-A1BC-4880-A90B-FE48B5EE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779-DB70-41CE-BD52-18F41BCA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030-1ADA-4096-AA14-799398AF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C58-A803-4F6C-A738-BF4B205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A4E-A199-49E3-947C-C20EDFB5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4B5-2DB4-4FE0-BBFC-2F0E7848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893F-B83B-4604-AB79-2371B3793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C6F1-84ED-4256-B510-956F37FE8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F387-7AC2-4443-90E3-8916233D7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131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45C1-C34A-498F-B25B-668774062249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ernhardMod BT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map 1812"/>
          <p:cNvPicPr/>
          <p:nvPr/>
        </p:nvPicPr>
        <p:blipFill>
          <a:blip r:embed="rId1"/>
          <a:stretch/>
        </p:blipFill>
        <p:spPr>
          <a:xfrm>
            <a:off x="762120" y="3240"/>
            <a:ext cx="7772400" cy="683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2" descr="123"/>
          <p:cNvPicPr/>
          <p:nvPr/>
        </p:nvPicPr>
        <p:blipFill>
          <a:blip r:embed="rId1"/>
          <a:stretch/>
        </p:blipFill>
        <p:spPr>
          <a:xfrm>
            <a:off x="304920" y="1143000"/>
            <a:ext cx="2617560" cy="3200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953240" cy="5257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on Land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for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invaded Washington, D.C. in 18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ish soldiers burned the Capitol, the White House, and other public build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fore the British burned the White Hous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lley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aved a famous painting of George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2" name="Picture 25" descr="Dolly Fire"/>
          <p:cNvPicPr/>
          <p:nvPr/>
        </p:nvPicPr>
        <p:blipFill>
          <a:blip r:embed="rId2"/>
          <a:stretch/>
        </p:blipFill>
        <p:spPr>
          <a:xfrm>
            <a:off x="1371600" y="3887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at Fort McHen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ancis Scott Ke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American lawyer and prisoner of the Briti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w an American flag flying over Ft. McHenry after the bat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flag inspired Key to write “The Star-Spangled Banner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4" name="Picture 3" descr="FortMcHenry1814a"/>
          <p:cNvPicPr/>
          <p:nvPr/>
        </p:nvPicPr>
        <p:blipFill>
          <a:blip r:embed="rId1"/>
          <a:stretch/>
        </p:blipFill>
        <p:spPr>
          <a:xfrm>
            <a:off x="228600" y="1143000"/>
            <a:ext cx="261936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lag"/>
          <p:cNvPicPr/>
          <p:nvPr/>
        </p:nvPicPr>
        <p:blipFill>
          <a:blip r:embed="rId2"/>
          <a:stretch/>
        </p:blipFill>
        <p:spPr>
          <a:xfrm>
            <a:off x="1542960" y="4324320"/>
            <a:ext cx="318132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Battle of New Orleans (1815)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ost famous/important battle of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lead to victory by General Andrew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ttle continued even after the war ended because word did not reach the Americans for several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8" descr="bonorr"/>
          <p:cNvPicPr/>
          <p:nvPr/>
        </p:nvPicPr>
        <p:blipFill>
          <a:blip r:embed="rId1"/>
          <a:stretch/>
        </p:blipFill>
        <p:spPr>
          <a:xfrm>
            <a:off x="6019920" y="3733920"/>
            <a:ext cx="2933640" cy="29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ajackson"/>
          <p:cNvPicPr/>
          <p:nvPr/>
        </p:nvPicPr>
        <p:blipFill>
          <a:blip r:embed="rId2"/>
          <a:stretch/>
        </p:blipFill>
        <p:spPr>
          <a:xfrm>
            <a:off x="4672080" y="1219320"/>
            <a:ext cx="2185920" cy="283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hent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454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Treaty of Ghent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December, 1815, British and Americans met in Ghent, Belgium to negotiate a peace trea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sults of the w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American became better all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 gained respect from other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Treaty of Ghent"/>
          <p:cNvPicPr/>
          <p:nvPr/>
        </p:nvPicPr>
        <p:blipFill>
          <a:blip r:embed="rId2"/>
          <a:stretch/>
        </p:blipFill>
        <p:spPr>
          <a:xfrm>
            <a:off x="1447920" y="3886200"/>
            <a:ext cx="3504960" cy="245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dddddd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nhardMod BT"/>
              </a:rPr>
              <a:t>End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4479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hapter 6, Sec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1818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auses of the War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France were fighting a war in Euro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began capturing American sailors and “impressing” them, or forcing them to work on British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07, Britain had seized more than 1,000 American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1" descr="impressment2"/>
          <p:cNvPicPr/>
          <p:nvPr/>
        </p:nvPicPr>
        <p:blipFill>
          <a:blip r:embed="rId1"/>
          <a:stretch/>
        </p:blipFill>
        <p:spPr>
          <a:xfrm>
            <a:off x="152280" y="1143000"/>
            <a:ext cx="3505320" cy="3006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92" name="Picture 7" descr="1808_11ill"/>
          <p:cNvPicPr/>
          <p:nvPr/>
        </p:nvPicPr>
        <p:blipFill>
          <a:blip r:embed="rId2"/>
          <a:stretch/>
        </p:blipFill>
        <p:spPr>
          <a:xfrm>
            <a:off x="1676520" y="419112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9" descr="149-Embargo"/>
          <p:cNvPicPr/>
          <p:nvPr/>
        </p:nvPicPr>
        <p:blipFill>
          <a:blip r:embed="rId1"/>
          <a:stretch/>
        </p:blipFill>
        <p:spPr>
          <a:xfrm>
            <a:off x="76320" y="1523880"/>
            <a:ext cx="3902040" cy="2602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57240" y="1752120"/>
            <a:ext cx="5334120" cy="43434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mbargo Act of 18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Jefferson convinced Congress to declare an embar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efferson believed the embargo would hurt Britain, but it really hurt Amer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1809, Congress ended the embargo with all countries except Britain and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17" descr="no embargo"/>
          <p:cNvPicPr/>
          <p:nvPr/>
        </p:nvPicPr>
        <p:blipFill>
          <a:blip r:embed="rId2"/>
          <a:stretch/>
        </p:blipFill>
        <p:spPr>
          <a:xfrm>
            <a:off x="1371600" y="4137120"/>
            <a:ext cx="3433680" cy="241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merica’s Desire for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saw that Canada was not well-defended by 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anted more land and believed that people in Canada would want to join the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11" descr="Map: British North America and the United States at the time of the War"/>
          <p:cNvPicPr/>
          <p:nvPr/>
        </p:nvPicPr>
        <p:blipFill>
          <a:blip r:embed="rId1"/>
          <a:stretch/>
        </p:blipFill>
        <p:spPr>
          <a:xfrm>
            <a:off x="4572000" y="1143000"/>
            <a:ext cx="45165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9880" y="1752480"/>
            <a:ext cx="5181840" cy="37339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Hawks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group of Republican Congressmen from the South and W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nted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d by Senat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ohn C. Calhou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outh Carolina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nry Cla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Kentuck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10" descr="john c calhoun"/>
          <p:cNvPicPr/>
          <p:nvPr/>
        </p:nvPicPr>
        <p:blipFill>
          <a:blip r:embed="rId1"/>
          <a:stretch/>
        </p:blipFill>
        <p:spPr>
          <a:xfrm>
            <a:off x="228600" y="1143000"/>
            <a:ext cx="27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enry clay"/>
          <p:cNvPicPr/>
          <p:nvPr/>
        </p:nvPicPr>
        <p:blipFill>
          <a:blip r:embed="rId2"/>
          <a:stretch/>
        </p:blipFill>
        <p:spPr>
          <a:xfrm>
            <a:off x="1371600" y="3657600"/>
            <a:ext cx="2808360" cy="31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28958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Election of 1808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 Democratic-Republican, w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Spring of 1812, Madison decided to go to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9" descr="war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4648320" y="3719520"/>
            <a:ext cx="426708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Madison"/>
          <p:cNvPicPr/>
          <p:nvPr/>
        </p:nvPicPr>
        <p:blipFill>
          <a:blip r:embed="rId2"/>
          <a:stretch/>
        </p:blipFill>
        <p:spPr>
          <a:xfrm>
            <a:off x="3386160" y="1403280"/>
            <a:ext cx="354816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in Canad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unprepared for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captured Detroit and the Americans failed to capture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Native Americans helped the British because they wanted to stop Americans from taking more 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5" name="Picture 14" descr="war1812"/>
          <p:cNvPicPr/>
          <p:nvPr/>
        </p:nvPicPr>
        <p:blipFill>
          <a:blip r:embed="rId1"/>
          <a:stretch/>
        </p:blipFill>
        <p:spPr>
          <a:xfrm>
            <a:off x="152280" y="1143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invade canada"/>
          <p:cNvPicPr/>
          <p:nvPr/>
        </p:nvPicPr>
        <p:blipFill>
          <a:blip r:embed="rId2"/>
          <a:stretch/>
        </p:blipFill>
        <p:spPr>
          <a:xfrm>
            <a:off x="1676520" y="4334040"/>
            <a:ext cx="371448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95324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at Se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U.S. Navy was young and outnumbe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November of 1812, the British blockaded the Chesapeake and Delaware Ba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ckade grew throughout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13, most American ships were unable to leave their p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8" name="Picture 15" descr="1812Jansonsinking"/>
          <p:cNvPicPr/>
          <p:nvPr/>
        </p:nvPicPr>
        <p:blipFill>
          <a:blip r:embed="rId1"/>
          <a:stretch/>
        </p:blipFill>
        <p:spPr>
          <a:xfrm>
            <a:off x="5159520" y="1752480"/>
            <a:ext cx="38322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8:11:47Z</dcterms:created>
  <dc:creator>Liz Koppany</dc:creator>
  <dc:description/>
  <dc:language>en-US</dc:language>
  <cp:lastModifiedBy>RomaK</cp:lastModifiedBy>
  <dcterms:modified xsi:type="dcterms:W3CDTF">2015-09-04T09:34:37Z</dcterms:modified>
  <cp:revision>77</cp:revision>
  <dc:subject/>
  <dc:title>Slide 1</dc:title>
</cp:coreProperties>
</file>